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move the slide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E38F-ADDE-40B5-AEB0-3D41CA0A4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DCFA-48A7-47B3-A44B-749667FE513D}" type="slidenum"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0BE5-4969-471A-8A8F-8DF88961C38C}" type="slidenum">
              <a:rPr b="0" lang="en-US" sz="1200" spc="-1" strike="noStrike">
                <a:solidFill>
                  <a:srgbClr val="0000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319B-2640-4381-A82B-304FD7D89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7FE-C4FB-4DBC-94F9-FC0DE5F3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7CDC-CF1E-4490-8034-9D37CD0C8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6B33-B7D5-4BDF-BF28-394A5746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DD468-4886-45F6-A74D-03E7FFE8E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0B26A-24B0-4AE3-872B-985366036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6BAD-CE9A-45FF-9B41-C38D1E8B7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DAE7A-9D9C-4662-87F9-A0AFB487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BD6F-617A-466F-84DB-9CF4481DA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A50B-CB11-4C03-861E-BBD61A344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D4219-D097-4FFD-858B-8A72DCAC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E852-6182-47DA-9007-B05209E0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7F8F4-EA2D-4CD2-A572-D332B983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70738-4C94-4D4E-9B7B-6A4D3561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9B8A-F87D-441C-B878-CAD190B68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20F08-FE7A-4C65-B23E-98740626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BA7FF-D93B-44C8-8D84-8C7FFD491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80527-956E-4E7A-9E2A-629D67D13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112E2-F1FA-44E0-A16A-6DDEAD2E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844E7-B25B-48CE-B3B9-6AED00A3F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87800-959A-4B27-ACC0-282CD1DC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93267-0F2F-49A9-B939-D4BC76E86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85FA-F863-4DC6-B3C6-993CA040F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E2CFDA-CF04-4C61-9ECA-C13D3000E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EDA46-715C-4EF9-B861-CCDE2686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E41C53-CD00-4F9E-9811-CF185214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102D8-2548-4D5C-AF08-61C5F3EFF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CAE575-EA21-483E-BAE0-70A1D99D9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D4339-B8CD-46CF-B108-C688C527D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329C0-A78C-41F3-B8F7-6550241AA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01702-6399-4E8E-B411-82D4B91EB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1B2F8-CC39-4680-9D5F-8A9F16FC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F24B5-A3E0-49FE-9B36-82C27F3E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5067-0467-4517-AC34-362A8AB98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26DFC-4153-4264-A03A-00FD48E95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E044A-B494-4A2B-A524-F98F0F61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CB5DD-48FD-4C75-9ECA-ED0FA7B7C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892856-8260-4884-83E3-A125C516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CE6E3F-D7AA-4EC9-8711-8E0B71A5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150CEA-CD6F-40CC-BE98-41621F42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6A7884-6E87-4085-8B2D-300F8338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51FFA3-42AB-4000-913E-83D148289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963B4-2A54-47D0-9C30-8C4AA23A7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37D5F-F33C-4A3F-899C-726312537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6B9E-EFB9-4340-A8A0-EC8C90BA8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5F0-75F0-4DFB-9435-9646299D0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08E3-38A6-40F6-A338-695C735B0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D1DD-D8D7-4387-A474-7F2C1C478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C1D60-D35F-4D5C-8F84-E3D17FB20DD0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17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53" name="Straight Connector 18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4" name="Straight Connector 19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5" name="Freeform 20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6" name="Freeform 21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7" name="Freeform 22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8" name="Freeform 23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59" name="Freeform 24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0" name="Freeform 25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1" name="Freeform 26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62" name="Freeform 27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eb3d9f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AAFE4-3568-45ED-B0B6-70EE5667D410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382E-F7B6-42E5-AF9F-03470AFAB4D4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71000" cy="6873840"/>
            <a:chOff x="-7920" y="-7920"/>
            <a:chExt cx="917100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080" y="4175640"/>
              <a:ext cx="4022280" cy="268200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f496cb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f496cb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720540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496c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f496cb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b3d9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eb3d9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09460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b2136d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6904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b2136d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eb3d9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496cb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000000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eb3d9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3A8DC-2525-45E7-B886-1F6201CA3915}" type="slidenum">
              <a:rPr b="0" lang="en-US" sz="900" spc="-1" strike="noStrike">
                <a:solidFill>
                  <a:srgbClr val="eb3d9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5400" spc="-1" strike="noStrike">
                <a:solidFill>
                  <a:srgbClr val="eb3d9f"/>
                </a:solidFill>
                <a:latin typeface="Trebuchet MS"/>
                <a:ea typeface="Trebuchet MS"/>
              </a:rPr>
              <a:t>4.3 2</a:t>
            </a:r>
            <a:r>
              <a:rPr b="0" lang="en-US" sz="5400" spc="-1" strike="noStrike" baseline="30000">
                <a:solidFill>
                  <a:srgbClr val="eb3d9f"/>
                </a:solidFill>
                <a:latin typeface="Trebuchet MS"/>
                <a:ea typeface="Trebuchet MS"/>
              </a:rPr>
              <a:t>nd</a:t>
            </a:r>
            <a:r>
              <a:rPr b="0" lang="en-US" sz="5400" spc="-1" strike="noStrike">
                <a:solidFill>
                  <a:srgbClr val="eb3d9f"/>
                </a:solidFill>
                <a:latin typeface="Trebuchet MS"/>
                <a:ea typeface="Trebuchet MS"/>
              </a:rPr>
              <a:t> year</a:t>
            </a:r>
            <a:endParaRPr b="0" lang="en-US" sz="54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664200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scríbelo- review game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Vocab, affirmative/negative words, gustar, and stem changing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waiter serves chicken and ric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l mesero sirve pollo y arroz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5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The class repeats the new vocabulary after Sra. Prin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La clase repite el vocabulario nuevo después de la Sra. Prin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2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y friends always compete when we play gam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Mis amigos siempre compiten cuando (nosotros) jugamos los juego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4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You serve sweet tea in the morning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Sirves (tú) el té dulce por la mañana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o one wants to ask for the check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Nadie quiere pedir la cuent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can follow the instructions for the tes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odemos seguir las instrucciones para el examen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co and you (sing/fam) (in Spain) never order dessert. What a shame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Paco y tú nunca pedís el postre. ¡Qué lástima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can correctly identify and use affirmative/negative words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10713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re the affirmative words in Spanish?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Give yourself 2 extra points if you had each form of some. </a:t>
            </a:r>
            <a:r>
              <a:rPr b="0" lang="en-US" sz="1800" spc="-1" strike="noStrike">
                <a:solidFill>
                  <a:srgbClr val="40404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1033560" y="2971800"/>
          <a:ext cx="1481040" cy="2057400"/>
        </p:xfrm>
        <a:graphic>
          <a:graphicData uri="http://schemas.openxmlformats.org/drawingml/2006/table">
            <a:tbl>
              <a:tblPr/>
              <a:tblGrid>
                <a:gridCol w="1481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omething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96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meone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ome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ways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so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738520" y="2971800"/>
          <a:ext cx="4189320" cy="2057400"/>
        </p:xfrm>
        <a:graphic>
          <a:graphicData uri="http://schemas.openxmlformats.org/drawingml/2006/table">
            <a:tbl>
              <a:tblPr/>
              <a:tblGrid>
                <a:gridCol w="4189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Alg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96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gui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Alguno/algún/alguna/aglunos/algu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iemp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mbié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7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can correctly identify and use affirmative/negative words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10713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at are the negative words in Spanish? 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	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762120" y="2971800"/>
          <a:ext cx="1785960" cy="2057400"/>
        </p:xfrm>
        <a:graphic>
          <a:graphicData uri="http://schemas.openxmlformats.org/drawingml/2006/table">
            <a:tbl>
              <a:tblPr/>
              <a:tblGrid>
                <a:gridCol w="17859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Nothing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96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 one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one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ver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either,either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738520" y="2971800"/>
          <a:ext cx="4881600" cy="2057400"/>
        </p:xfrm>
        <a:graphic>
          <a:graphicData uri="http://schemas.openxmlformats.org/drawingml/2006/table">
            <a:tbl>
              <a:tblPr/>
              <a:tblGrid>
                <a:gridCol w="48816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N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96cb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ad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inguno/ningún/ninguna/ningunos/ningu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Nunc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bd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Tampoc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1" dur="5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can correctly identify and use affirmative/negative words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69840">
              <a:spcBef>
                <a:spcPts val="1001"/>
              </a:spcBef>
              <a:buClr>
                <a:srgbClr val="404040"/>
              </a:buClr>
              <a:buSzPct val="80000"/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Do you want to go to some restaurant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9840">
              <a:spcBef>
                <a:spcPts val="1001"/>
              </a:spcBef>
              <a:buClr>
                <a:srgbClr val="404040"/>
              </a:buClr>
              <a:buSzPct val="80000"/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¿Quieres ir a algún restaurante?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6984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eb3d9f"/>
                </a:solidFill>
                <a:latin typeface="Trebuchet MS"/>
                <a:ea typeface="Trebuchet MS"/>
              </a:rPr>
              <a:t>Las regla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verybody gets a whiteboard/marker/eraser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ra. puts up a question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rite your answer fast- turn your board upside down/or cover it- marker down!!!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Say  uno/dos/tres etc. (talk softly)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hoever gets it correct first 2 pt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Everybody else 1p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f the person who said uno isn’t correct- check dos etc. 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27324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 can correctly identify and use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affirmative/negative words</a:t>
            </a:r>
            <a:r>
              <a:rPr b="0" lang="en-US" sz="3200" spc="-1" strike="noStrike">
                <a:solidFill>
                  <a:srgbClr val="eb3d9f"/>
                </a:solidFill>
                <a:latin typeface="Trebuchet MS"/>
                <a:ea typeface="Trebuchet MS"/>
              </a:rPr>
              <a:t>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don’t want to eat any fruit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(Yo) no quiero comer ninguna fruta.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can correctly identify and use affirmative/negative words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We always order some desserts after dinner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Nosotros) siempre pedimos algunos postres después de la cen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can correctly identify and use affirmative/negative words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Are you going to drink some coffee for breakfast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Vas a beber/tomar algún café para el desayuno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Trebuchet MS"/>
              </a:rPr>
              <a:t>I can correctly identify and use affirmative/negative words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I never drink any(none) coffee. I don’t like it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(Yo) nunca bebo ninún café. No me gusta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use the verb gustar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 don’t like coffee either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 me gusta el café tampoco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indefinite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6" dur="20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1" dur="20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18640" y="45684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I can correctly identify and use 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</a:rPr>
              <a:t>the verb gustar</a:t>
            </a:r>
            <a:r>
              <a:rPr b="0" lang="en-US" sz="3200" spc="-1" strike="noStrike">
                <a:solidFill>
                  <a:srgbClr val="000000"/>
                </a:solidFill>
                <a:latin typeface="Trebuchet MS"/>
                <a:ea typeface="Trebuchet MS"/>
              </a:rPr>
              <a:t>.</a:t>
            </a:r>
            <a:endParaRPr b="0" lang="en-US" sz="32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609120" y="213336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Patricia and Carla like salad</a:t>
            </a: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Patricia y Carla les gusta la ensalada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use the verb gustar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I like enchiladas with red sauce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e gustan las enchiladas con salsa roja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use the verb gustar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You don’t like meat because you are a vegetarian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 te gusta la carne porque eres vegetariano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use the verb gustar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y younger sister likes sweet roll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Mi hermana menor le gustan los panes dulce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use the verb gustar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We like to get good grades on the Spanish test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Trebuchet MS"/>
              </a:rPr>
              <a:t>Nos gusta sacar buenas notas en los examenes de español. </a:t>
            </a:r>
            <a:r>
              <a:rPr b="0" lang="en-US" sz="2400" spc="-1" strike="noStrike">
                <a:solidFill>
                  <a:srgbClr val="404040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spell vocabulary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Cómo se dice “the rice” en español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400" spc="-1" strike="noStrike">
                <a:solidFill>
                  <a:srgbClr val="404040"/>
                </a:solidFill>
                <a:latin typeface="Trebuchet MS"/>
              </a:rPr>
              <a:t>El arroz</a:t>
            </a:r>
            <a:endParaRPr b="0" lang="en-US" sz="5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spell vocabulary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 Cómo se dice “to eat breakfast” en español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Trebuchet MS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-</a:t>
            </a:r>
            <a:r>
              <a:rPr b="1" lang="en-US" sz="6000" spc="-1" strike="noStrike">
                <a:solidFill>
                  <a:srgbClr val="404040"/>
                </a:solidFill>
                <a:latin typeface="Trebuchet MS"/>
              </a:rPr>
              <a:t>desayunar</a:t>
            </a:r>
            <a:endParaRPr b="0" lang="en-US" sz="60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spell vocabulary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Cómo se dice “the soup” en español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8800" spc="-1" strike="noStrike">
                <a:solidFill>
                  <a:srgbClr val="404040"/>
                </a:solidFill>
                <a:latin typeface="Trebuchet MS"/>
              </a:rPr>
              <a:t>La sopa</a:t>
            </a:r>
            <a:endParaRPr b="0" lang="en-US" sz="8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spell vocabulary.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914040" y="236196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04040"/>
              </a:buClr>
              <a:buSzPct val="80000"/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Cómo se dice “the sugar” en español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>
              <a:spcBef>
                <a:spcPts val="1001"/>
              </a:spcBef>
              <a:buClr>
                <a:srgbClr val="404040"/>
              </a:buClr>
              <a:buSzPct val="80000"/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Trebuchet MS"/>
              </a:rPr>
              <a:t>El azúcar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spell vocabulary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Cómo se dice “To ask for” en español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Trebuchet MS"/>
              </a:rPr>
              <a:t>pedir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0" dur="20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" dur="20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identify and spell vocabulary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404040"/>
              </a:buClr>
              <a:buSzPct val="80000"/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04040"/>
              </a:buClr>
              <a:buSzPct val="80000"/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Cómo se dice “the spoon” en español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404040"/>
              </a:buClr>
              <a:buSzPct val="80000"/>
              <a:buFont typeface="Wingdings 2" charset="2"/>
              <a:buChar char="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Trebuchet MS"/>
              </a:rPr>
              <a:t>La cuchara</a:t>
            </a:r>
            <a:endParaRPr b="0" lang="en-US" sz="48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Trebuchet MS"/>
              </a:rPr>
              <a:t>I can correctly conjugate stem-changing verbs</a:t>
            </a:r>
            <a:endParaRPr b="0" lang="en-US" sz="3600" spc="-1" strike="noStrike">
              <a:solidFill>
                <a:srgbClr val="eb3d9f"/>
              </a:solidFill>
              <a:latin typeface="Trebuchet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066320" y="228564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Trebuchet MS"/>
              </a:rPr>
              <a:t>¿Cuáles son las formas del verbo servir?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eb3d9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122480" y="2819520"/>
          <a:ext cx="5867280" cy="2590560"/>
        </p:xfrm>
        <a:graphic>
          <a:graphicData uri="http://schemas.openxmlformats.org/drawingml/2006/table">
            <a:tbl>
              <a:tblPr/>
              <a:tblGrid>
                <a:gridCol w="2933640"/>
                <a:gridCol w="2933640"/>
              </a:tblGrid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irv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213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rvimo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496cb"/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irve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13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serví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96cb"/>
                    </a:solidFill>
                  </a:tcPr>
                </a:tc>
              </a:tr>
              <a:tr h="863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irve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136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rebuchet MS"/>
                        </a:rPr>
                        <a:t>sirven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2136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1T18:17:58Z</dcterms:created>
  <dc:creator>Coffman, Kristie</dc:creator>
  <dc:description/>
  <dc:language>en-US</dc:language>
  <cp:lastModifiedBy>Prine, Stephanie</cp:lastModifiedBy>
  <dcterms:modified xsi:type="dcterms:W3CDTF">2015-10-22T15:03:06Z</dcterms:modified>
  <cp:revision>42</cp:revision>
  <dc:subject/>
  <dc:title>6-2 2nd</dc:title>
</cp:coreProperties>
</file>